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765-6365-4975-B9AA-AC8487B1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D790-7D3A-4675-BE53-7540001F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4C6-8503-40A7-809C-D2C633A1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4B8-81AB-4872-94C0-B392043F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A05-6D5B-47FD-BC91-149235FC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EAD5-0241-4169-A6EA-F574023E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C13-D480-445D-A30C-03A32488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1E68-F4BA-4EB6-8318-F83A7F4D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40F-7FA2-4BAB-8796-63CB89D8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D98-AA48-41C2-A6EF-A6FEE234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01CB-8D62-419B-80CD-BFDA53E9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8E3-20EB-4634-A7BE-10D89862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9251-CA38-4982-9E16-200E43B9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7E77-AAE8-4563-9546-777D8BD6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70FB-B52C-499F-9922-B8737B72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C35-D8C0-4EEE-905E-F5CA0164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893-6966-41F0-950F-C2FE1613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7952-5824-414D-9DBA-EEA692E4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51D-002C-4FAA-A434-5A8655F2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0DB-03FD-4B69-B15C-C17BDDC4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896-6551-40BB-ABDC-2C7ED444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B0DD-57A4-421F-9B16-F054A40A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BB38-338E-46BD-BFA8-ED8EC4BA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6132-6088-49A5-A476-25E742CA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B22-DAE6-43B8-8F1C-E626AE5F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604-2A5C-4222-BC72-F18CC33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B38-32AD-4183-9AD2-5B38DD70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80D-E05C-4E91-92DC-A837DBE3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B3B-70C8-4C6B-82FF-5B56CF8E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C9E-CF0B-4859-9505-4ABACC47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C9F-7344-415C-A89A-23C7665B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D85-6588-4B36-A253-0485645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0E9-3753-4EB2-9D3D-F06B523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17-24DE-4961-A74E-419DCAF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5B4-3503-409B-B9ED-63C8F41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59D-A93D-4157-8562-977DFBB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9D7-E0E7-4485-BAF2-D0B00426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1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4T18:01:46Z</dcterms:modified>
  <cp:revision>9</cp:revision>
  <dc:subject/>
  <dc:title>Slide 1</dc:title>
</cp:coreProperties>
</file>